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F13-07A4-44C9-92F4-A4CF70EF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538-3B75-4221-A699-D4FD1876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50A-2A72-42C5-BFB7-73BBF1EE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E22-C675-49B5-84B4-1604F3CE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E84-6E71-4F76-82A5-1CC70689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482-37B9-4187-8BEF-072E7154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7B9-FFE4-46C0-A634-FAE8D501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2E6-EEA3-4BBC-8449-BE3C3F8D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412-18EF-40B8-BEF3-227BF310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C7C-8BEF-4B18-9737-62B6CB47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710-14E9-4659-B577-53FD8716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78F-05A7-4C50-B48A-3815BA5E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6799-81D0-453B-BF62-629EA2F794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14720" y="1714680"/>
            <a:ext cx="4714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ok at the picture and describe the architecture using your own word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decorate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the modern design and ancient ar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by famous archit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angzhou new air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670040"/>
            <a:ext cx="70567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9-06T14:59:47Z</dcterms:modified>
  <cp:revision>4</cp:revision>
  <dc:subject/>
  <dc:title>PowerPoint Presentation</dc:title>
</cp:coreProperties>
</file>